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0774-DDD5-432C-906A-755A2FD2D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D6A-880F-4DED-8E84-93ABFC93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7077-17E3-47AE-999F-C8866C04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E41-3266-4EB4-A37A-7DBA6623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4A1-55D8-4A33-8DD5-10EB6AB8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49CC-FAAA-4B0C-A576-62B786CA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7F1-786E-4BAB-8C02-AA7112FB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931A-CFD0-49C1-A25D-7205857B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F50-6A4E-4D72-8E88-0232AAA4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986-126D-46E6-ABBD-25484020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D8A-6B4E-4827-AA6B-CACBE594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77BD-EFB6-44C3-8CB6-5ECAB30E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08A-E3F1-434C-8591-EF7063607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637-193E-4E18-A958-0A4B3339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4D1-A193-461A-B699-3DAB5318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B5C-BBCB-4C4B-8305-24B45C8B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F6B5-B60D-4DAD-9D58-87F42D709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87D0-5251-435F-9659-243DEC25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B604-CE46-4854-9FEA-A7CA19D7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– Child (under 7) are held incapable of negligent con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– Child (7-14) required to act with the care that a reasonable child of like age, intelligence &amp; experience would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hild has taken on an adult like activity such as driving – the child would be held to the adult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– Professional: held to higher standard in thei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2615-8070-4CB6-A04F-4A57F9CF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428-4421-42B8-8B9B-B4C30BD4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13E1-AF6C-403A-9791-70269D9C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Common Law – Contribu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ve happened in Yee &amp; Britt’s c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substitution  - Compa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C211-F02A-4C30-BABD-67328E6A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st of wind blows a section of plywood off the top floor and hits you in the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seriously inj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the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745A-787F-40E0-B96F-8261AF10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A25-96DF-4131-BD06-8EFAD9B0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strict liability the victim might not receive any compensation because negligence may be too difficult to pr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Lamm could collect from either the store, the bottler, or both.  The bottle was defective (bottler) and it made the product unreasonably dangerous (sto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A588-2FAB-4E05-B263-E7BBCB003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Doctrine (policy/guideline) – Your act caused injury regardless of precautions taken or lack of neg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74EB-1F7E-4870-93FD-7FB25CAB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Duty is Usually #2 on our list of elemen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 of the activity and the injury substitutes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ctions are so hazardous that they need to b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ADF8-BCD5-4239-AB14-5A8E6A9A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128B-E7F5-4AB5-AE62-50256D64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strict liability the victim might not receive any compensation because negligence may be too difficult to pr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Lamm could collect from either the store, the bottler, or both.  The bottle was defective (bottler) and it made the product unreasonably dangerous (sto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A44A-2AF7-4CEE-8CD0-B0706774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ault, Battery, False Imprisonment, Defamation (Slander-Spoken, Libel-Printed), Invasion of Privacy, Trespass to Land, Conversion, Interference with Contractual Relations, and Fra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y of Care, Breach of Duty, Causation, &amp;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Doctrine that imposes liability merely upon an act and a resultant injury regardless of precautions taken  or lack of negli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3419-3D8B-43A5-99DE-3E597175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AE72-F461-4C01-99FF-326552DB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A31-E96B-4ECD-8A58-D77C6DD0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06D-3971-446A-9BD8-2B805372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459-B95A-4879-AF47-51DE21BC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A0AE-776F-477F-8A30-28EF1F6B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1B64-FA47-4E65-A482-244925BB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DEB-CFB2-4756-B43A-03623F69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D4A-AAC7-4314-AA52-5F02F93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33E-E1E7-4501-B99D-591BCAF1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09F-6175-45BF-BEE9-6416DA6D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7FB-C691-4675-9C04-9D119D3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753-B17C-427C-8E3C-BAC5AFC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8C5-9A3B-4640-9641-9437B96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53A-9842-41DD-971A-4132934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14B-5A55-451C-A57A-2128E459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274-1E05-4316-B22E-39EF2190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676-0EC1-42DA-BE0D-62933B53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083-AAF8-4352-AAD4-6745CB8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2B10-2F24-483C-8FE5-C6CF93F2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CZIQh4tH_RMvM&amp;tbnid=iINleUDkOPWU6M:&amp;ved=0CAUQjRw&amp;url=http%3A%2F%2Fwww.123rf.com%2Fphoto_11698806_an-angry-businessman-shakes-his-fist-out-of-frustration.html&amp;ei=KLqcUujJLcipsQT68ICQBA&amp;bvm=bv.57155469,d.cWc&amp;psig=AFQjCNHvx0zzlsbTJ7bXe7_V2m1LQhPi5g&amp;ust=138608936910255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_Vd8I-YYvVHbPM&amp;tbnid=3aB8SKb8PNM6xM:&amp;ved=0CAUQjRw&amp;url=http%3A%2F%2Fwww.dontewyatt.com%2FCrimes-of-Violence.html&amp;ei=k-ucUpSXIbTHsATNnYDIBQ&amp;bvm=bv.57155469,d.cWc&amp;psig=AFQjCNHEcXalTMl2MA3Kv1Lson0UFofexw&amp;ust=1386102021093356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vTW50ZSrKQ-4QM&amp;tbnid=fWxa6k8lsQbYpM:&amp;ved=0CAUQjRw&amp;url=http%3A%2F%2Fsocietaldelusion.wordpress.com%2Ftag%2Fdefamation%2F&amp;ei=8OqcUoTaLMXlsAT9moKYBw&amp;bvm=bv.57155469,d.cWc&amp;psig=AFQjCNGHBGqyjgg8XH9TiZI1QWgir-0Rkg&amp;ust=1386101842009571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google.com/url?sa=i&amp;source=images&amp;cd=&amp;cad=rja&amp;docid=ZCb6KdD04k6ttM&amp;tbnid=zs4RQHPDBAKpTM:&amp;ved=0CAgQjRwwAA&amp;url=http%3A%2F%2Fdict.space.4goo.net%2Fdict%3Fq%3Dslander&amp;ei=O-ucUt_2JcmpsQTCsoDgCA&amp;psig=AFQjCNEbpCRPTNaMh99Nq4xfEHYB03zGqg&amp;ust=1386101947681383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5YIxvy37e6uDbM&amp;tbnid=OBe5NdMs82-gYM:&amp;ved=0CAUQjRw&amp;url=http%3A%2F%2Fthecyberhoodwatch.com%2Fpersonal-identity-protection%2Fmarketing-ivasion-privacy%2F&amp;ei=9OucUp2HKO_hsAT0_YL4Cg&amp;bvm=bv.57155469,d.cWc&amp;psig=AFQjCNH-GMPe5fwRSGO_pqwFZSjG44pHpQ&amp;ust=1386102097586089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1FDB-E554-467D-AF65-68018F89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siness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Law &amp;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j0234202"/>
          <p:cNvPicPr/>
          <p:nvPr/>
        </p:nvPicPr>
        <p:blipFill>
          <a:blip r:embed="rId1"/>
          <a:stretch/>
        </p:blipFill>
        <p:spPr>
          <a:xfrm>
            <a:off x="7162920" y="457200"/>
            <a:ext cx="154944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j0234202"/>
          <p:cNvPicPr/>
          <p:nvPr/>
        </p:nvPicPr>
        <p:blipFill>
          <a:blip r:embed="rId2"/>
          <a:stretch/>
        </p:blipFill>
        <p:spPr>
          <a:xfrm>
            <a:off x="533520" y="457200"/>
            <a:ext cx="1549440" cy="123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j0234202"/>
          <p:cNvPicPr/>
          <p:nvPr/>
        </p:nvPicPr>
        <p:blipFill>
          <a:blip r:embed="rId3"/>
          <a:stretch/>
        </p:blipFill>
        <p:spPr>
          <a:xfrm>
            <a:off x="3886200" y="457200"/>
            <a:ext cx="15494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5776-FB64-423D-B69C-F6F67C74E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point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 crime and a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a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arties might be held responsible for another person’s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86D-D48C-42FE-BC14-22531755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ntional Torts, Negligence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Strict 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tion 5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mmon intentional t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the elements of neglig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basis for strict Li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B7C9-C0A5-4415-9BA8-1BA5E03E2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Hart committed an intentional tor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lty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sp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ven though he thought he was in a national fores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tended to be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Users\jsundlin1\AppData\Local\Microsoft\Windows\Temporary Internet Files\Content.IE5\2Y1B15XN\MC900199054[1].wmf"/>
          <p:cNvPicPr/>
          <p:nvPr/>
        </p:nvPicPr>
        <p:blipFill>
          <a:blip r:embed="rId1"/>
          <a:stretch/>
        </p:blipFill>
        <p:spPr>
          <a:xfrm>
            <a:off x="6324480" y="152280"/>
            <a:ext cx="2689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FC95-4539-465A-BA95-D9711E84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Intentional To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ional tor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t in which the defendant means to commit the injuriou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3200400"/>
            <a:ext cx="43434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ault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tter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lse Imprisonment</a:t>
            </a:r>
            <a:br>
              <a:rPr sz="28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vasion of Priv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24280" y="3200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spass to Lan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ers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u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ference with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Contractu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270F-69BD-461D-A5B1-7DD2EEB0B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s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erson intentionally pu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asonable fea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ffensive or harmful bodi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ased on words or ges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display present ability to carry out thr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be believ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s://encrypted-tbn1.gstatic.com/images?q=tbn:ANd9GcSuSDJvI1Z9Lk2sLG6yfHk0lcQNRWCNK69zNnpFBfaRiR_0fi1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228600"/>
            <a:ext cx="2352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7D0-E41B-4C50-8D99-F17878DD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ful or offensive touching of someon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oting, Pushing, Spitting, Throwing an Object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ccu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ass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ault ~~~ Angrily Raised F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~~~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iking some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ucker punched from behind = no ass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B43B-922B-4553-A092-AA53AB58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confinement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against the person’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nd without lawful privileg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locked in a room, car, jail, told in a threatening way to stay in one plac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and Merchant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s://encrypted-tbn0.gstatic.com/images?q=tbn:ANd9GcTsajpegGMYgoor_9Nkawsc_6v-eUby0IFp4sxa_ysAjG2fwOAs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2040" y="-6480"/>
            <a:ext cx="29084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4CB1-B796-45C4-A315-696338FA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statement which injuries a person’s reputation or good nam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lan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Spoken Def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b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Written or Printed Defa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Defamation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mmunicated to a third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 victims into disrepute, contempt, or ridicule of others (disgrace, disrespect, or mockery of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ttps://encrypted-tbn2.gstatic.com/images?q=tbn:ANd9GcQQ-CJVDSHES0ppSRQelKRljvyoXyG1CC5FjesTkYu75vUNtTZS_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480" y="-6480"/>
            <a:ext cx="2603520" cy="1811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t1.gstatic.com/images?q=tbn:ANd9GcRYmGRQs_0sBa6VzeyU9Y-X5b7b3Uz5l_kYujNSs7y8gZplotrq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91360" y="-6480"/>
            <a:ext cx="28591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B5F-0283-4ACC-BEC9-A2CC4FD1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53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asion of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nvited intrusion into an individual’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relationships and activities i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 way likely to cause shame or mental suffering of an ordinary person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wo way mirror, exploiting personal info w/o permission, eavesdropping, opening mail…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 of a true statement. Not Defa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can invade with proper, legal War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figures give up their “Right to Priv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s://encrypted-tbn1.gstatic.com/images?q=tbn:ANd9GcTN6UckyxQCTYcEoJ_ECb0aC59ZSZf2GZTwUeF3HEq21iqeO3q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45440" y="-6480"/>
            <a:ext cx="1805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514-5E21-4A31-B95E-F0EB47706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sp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respass to La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y onto the property of an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the owner’s consen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mping on property or destroying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nt required therefo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shed/thrown onto property –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trespa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lking along property because they mistakenly think they are on their own land -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s trespa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8440" y="-1317600"/>
            <a:ext cx="381024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28440" y="-1317600"/>
            <a:ext cx="381024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http://naturalunseenhazards.files.wordpress.com/2011/03/no-trespass-private-property-sign-k-4693.gif"/>
          <p:cNvPicPr/>
          <p:nvPr/>
        </p:nvPicPr>
        <p:blipFill>
          <a:blip r:embed="rId1"/>
          <a:stretch/>
        </p:blipFill>
        <p:spPr>
          <a:xfrm>
            <a:off x="708660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89B3-D960-4585-B4C0-AA56AB09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t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rrective action should Chanelle take within the school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rdless of whether or not she tries to resolve the problem within the school’s structure, has Chanelle received a personal injury for which she could bring suit in cou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FC3-324C-40F2-A691-06C52600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y is stolen, destroyed or used in a manner inconsistent with the owner’s righ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theft is always a conver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nocent buyer of stolen goods is a converter.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wner (injured party) can receive dam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ter can be compelled to purchase the converted goods from their own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3508-FACC-421E-B1EF-0348322B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ference with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tractual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third party encourages someone to breach their contract in any way, that third party may be liable in tort to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reaching part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 A in contract with Party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 C encourages B to breach that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 C may be liable to tort damages to Part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251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0B91-3C34-4F2D-83F1-8A30C8BD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reckless misrepresentation of an existing, important fa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s when misrepresentation intends to induce someone to enter into a contr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ctim must actually enter into the contract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ments of opinion are not fraudul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5E6D-A638-49CC-9F06-5064A531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ge 8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80880" y="2286000"/>
            <a:ext cx="8610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have to pay damages for the injuries and property damage sustained in the acc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Determin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ome notes and discu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69D7-788D-4A52-A052-3AD204862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itutes Neglig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ligence i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OST COMM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injure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 REQUI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less behavior is enough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Elements of Neglig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DD5D-D474-4AF5-A356-A7529C275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Element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ty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sonable Perso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 with care, prudence (caution) &amp; good judgment so not to cause injury to an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egrees of care – Children, Adul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ch of 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reasonable person” standard defines they duty of care in any specific case and whether they violated this du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4C1C-0682-45E6-9352-A8B6013F8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Element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injury must b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one is injured, there usually is no tor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ch of duty caused th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ximate Caus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ists when it is reasonably foreseeable that a breach of duty will result i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C97-0E7C-4137-86E4-B3D2E4378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80880" y="1219320"/>
            <a:ext cx="84582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Loo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have to pay damages for the injuries and property damage sustained in the acc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on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speeding &amp;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ory Negligence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d not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tively Negligence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fault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D337-5B63-4C1C-A4E5-488C88AF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nse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ributory Neglig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plaintiff was also negligent in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 the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annot collec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arative Neglig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pplies when a plaintiff is partially at 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ed damages i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por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ir percent of responsibility in the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7A85-790F-46BE-8CA5-78287FE6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nses of Neg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mption of the Ri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if plaintiff was aware of a danger, but decided to subject themselves to the risk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cut across a lot where there is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meter clearly marked with sig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Danger, No Trespassing.  Construction Are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1B2B-2344-45A9-915A-BD897AB1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vate Injuries vs. Public Offe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tion 5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between a crime and a t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elements of t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one person may be responsible for another person’s t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593-CC8F-45CD-BA80-AA985435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57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ge 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he collect in tort from the grocery store or the bott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s. Lamm could collect from either the store, the bottler or both under strict li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le Defective = unreasonably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:\Users\jsundlin1\AppData\Local\Microsoft\Windows\Temporary Internet Files\Content.IE5\D7WX6XPI\MC900112970[1].wmf"/>
          <p:cNvPicPr/>
          <p:nvPr/>
        </p:nvPicPr>
        <p:blipFill>
          <a:blip r:embed="rId1"/>
          <a:stretch/>
        </p:blipFill>
        <p:spPr>
          <a:xfrm>
            <a:off x="5472000" y="0"/>
            <a:ext cx="347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786D-747F-44EF-8F29-6E579E54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Strict Liabilit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ct liabilit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a defendant liable without a showing of negligenc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“Doctrine of Strict Li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fendant can be held liable if he/she merely engaged in a particular activity that resulted in injury regardless of whether or not he/she was neg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6CD2-B87C-4CB7-820C-2EE59E221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Strict Liabilit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 of both the activity and the injury </a:t>
            </a:r>
            <a:br>
              <a:rPr sz="3200"/>
            </a:b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bstitu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proof of violation of a dut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L. - applies when someone has engaged in abnormally dangerous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ing / Demolition /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p Dusting with Dangerous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ing Large Quantities of Flammable Liqu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C4FF-5575-4131-B39B-2053CFFF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Strict Liabilit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rship of Dangerous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ated pets that display dangerous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d or Dangerous Animals (bear, tiger, monkey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of Unreasonably Dangerous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ctive goods that caus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merchant that sells them are strictly liabl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nufacturer and Retailers that sell the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050-F189-4C97-9708-FC690BCB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he collect in tort from the grocery store or the bott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hink this is fair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or why n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400-5D45-4123-9455-46B8CCD9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point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six of the most common intentional tor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four elements of the tort of negligenc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trict li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052-FDA3-48FA-A725-31704DA0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tion 5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legal remedies that are available to a tort vic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rocedure used to try a civil 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32E-5963-4083-98C2-8DE67AD8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damages could Horsley collect from Eardly in a laws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2E5-788F-4339-A7D3-88ED89250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Procedure – Reme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Remed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jun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 order for a person to do or not do a particular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injury, discontinue it, or undo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mag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tary award by the court to a person who has suffered loss or injury because of the act or omission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0D63-DFB0-476B-A351-C906BAC84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Procedure – Reme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nsatory damages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t to place injured party in the position they were in prior to the injury/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’s Loss, Doctor’s Fees, $ for Pain/Suffe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itive Damages (exemplar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warded in intentional tor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t to punish the person who inflicted th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18C-B5AE-451A-BF14-D9DC7DBD8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Jerone’s conduct represent a criminal wrong, a civil wrong,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ne committed two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 counts of manslaugh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disclose medication use and blood pressure status at tim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ne also committed a t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ligent conduct in piloting the ferry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jsundlin1\AppData\Local\Microsoft\Windows\Temporary Internet Files\Content.IE5\2Y1B15XN\MC90025201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3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A48F-5E49-456B-A1E2-96CD08A4B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bout The Law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gency Fee Ba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yers at times handle civil lawsuits for a percent of the recover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mon percent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if the case is settled before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% if the case is won at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+ if the case is won at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0206-88B4-46EA-8777-A33C8A62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the court determine what re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5632-4E70-4B2F-B382-CA66596F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 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or Ju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ening Statements and Testimon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ing Arguments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structions to the Ju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ry Deliberation and the Verdi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C53-13E2-4C89-B517-11320F0F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ge or J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– decides issues of  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ry – decides issues of      FAC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ivil Ju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consists of 6-12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en to wit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ew physical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ch a deci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4A7-B5E4-41CE-AAF0-D4F1D5AA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ing Statements &amp; Testi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57200" y="1676520"/>
            <a:ext cx="8458200" cy="4848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Statements – briefly outline what the plaintiff and defendant will try to pro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– includes anything that the judge allows to be presented to the jury that helps prove/disprove the alleged facts (testimony, documents, photo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mony – statements made by a witness under oa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ness – someone who has personal knowledge of fact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poena – written order by the judge commanding a person to appear, give testi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3A1-547D-4777-9C6E-D299A019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osing Arguments/Jury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the presentation of the evidence each attorney gives a closing argu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ize case, persuade the judge and jury to favor their side.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then gives instructions to the jury including laws that apply to case and facts they must make a decide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36E-FE31-4446-AED6-065F210A6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vil Procedu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ry Deliberation &amp; Verd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ry Delibe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whether preponderance (superior weight) of evidence supports the plaintiff’s cas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dict – Jury’s Decis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ge renders a Judgment: final result of t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C39C-D9EE-49B3-8966-F971E277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teps could Stevens take to collect the jud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DF7-1780-4859-83B2-B813A54B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I get my Money??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llecting Da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a Civil Judgment for Plaintiff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fendant would pay the damag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y don’t pa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tain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rit of execu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order that the defendant’s property is seize or sold. Proceeds are then used to pay the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49A-F552-4EC5-8D62-1416D207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point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two remedies available in a civil cour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steps in the procedure used to try a civil cas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a plaintiff collect damages if the defendant refuses to p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887-96AD-4CDE-9F29-768701FF5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Crimes and Torts D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Again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e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rt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civil wrong for which the law grants a re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e for Dam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ama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tary award to compensate for the loss caused by a t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awarded is meant to try and restrain injured party from retaliation/reve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10B7-61B9-4A95-904A-01CB4DC5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alyze Re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– Reads case to group &amp;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– Summarizes main poi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ecutor – Provide proof of guil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e – Defends the cl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 – Determines the outcome of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8653-7443-451B-970B-EEBD1064E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Verdict?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 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d Mason commit a t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on Committed a tor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owed a duty to the neighbors not to injure their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reached the duty when he left the fire unattended – spreading to neighbors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jury occurred when the neighbor’s house was b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ing the fire unattended was proximate cause of the loss of the f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s://encrypted-tbn3.gstatic.com/images?q=tbn:ANd9GcRA5mpBrVlEJBYA30k146PldjgCtB_UFvP_2AeQqG9Bf4YhwxfP"/>
          <p:cNvPicPr/>
          <p:nvPr/>
        </p:nvPicPr>
        <p:blipFill>
          <a:blip r:embed="rId1"/>
          <a:stretch/>
        </p:blipFill>
        <p:spPr>
          <a:xfrm>
            <a:off x="6019920" y="2286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F7C8-6382-4E11-B197-AC388595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ments of a Tort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 82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must be proven in Court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ty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legal obligation to do/not do someth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ch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violation of du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ju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a harm that is recognized by la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tio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roof that breach caused inju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20B-B4C7-4FAB-82C0-DA4E17728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olation of Duty / 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glige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tort based on careless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us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ch of duty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au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jury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ximate Cau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amt of causation is great enough for it to be recognized by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3FB6-331A-493B-B070-8AD07AE4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ne person is liable for the torts of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be liable if they give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ld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dangerous instrumentalities” such as a gun without proper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may be liable for their children’s continuing dangerous habit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Throwing stones at people or vehicles, Parents liable if they fail to stop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9:16Z</dcterms:created>
  <dc:creator>Jessica Spangenberg</dc:creator>
  <dc:description/>
  <dc:language>en-US</dc:language>
  <cp:lastModifiedBy>tmsadmin</cp:lastModifiedBy>
  <dcterms:modified xsi:type="dcterms:W3CDTF">2013-12-02T20:36:35Z</dcterms:modified>
  <cp:revision>89</cp:revision>
  <dc:subject/>
  <dc:title>Business Law</dc:title>
</cp:coreProperties>
</file>